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4B0-6A3C-42F7-9028-6D6B92AB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FFE-B9EC-48E2-A943-E90B9C3B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88F-2718-4594-ABAC-655EA849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CAB-82BD-4876-8D5C-AD3F287A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3F8E1-6790-4F5A-ADC0-5F20F18C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B7421-4F57-4E3C-BC9F-75AD27EF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A5E19-1E53-4460-A929-C56B4A38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B0A8-7E1A-4695-AA8E-9DE20403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E6E81-BD7A-4268-8BEB-3D6E83C2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DB129-B37F-406B-9BDA-BD3A0E5E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E40A6-6AA8-4717-B6B8-2040DC04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45B-982B-489A-80DA-DB410D8B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02248-626D-4520-9422-77A5800B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69A86-50AA-43A3-A97F-FC7808F4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3284D-7DCF-4577-B871-E8A8E1CC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7C70F-2BA1-452D-ADE1-465DAA01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61ACD-1F47-4E93-B3B8-61A19567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A3F-244E-4144-A275-32FA02DF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8C7-423E-44FA-8816-4EE83B14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2FB-41D4-483F-B00B-387EE5F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40A-D142-4A2D-8047-D6B89C02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25E-61D2-4923-B7B8-1AE77424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8F1-42FC-479F-A912-EDEB6EE0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218-FC30-4C0E-B360-B73D4163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C5F5-66DD-4A47-87B8-B71B1E62A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362A-BB23-43E3-9B82-39D17F677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utroph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.R. Hawkin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niversity of Rhode Isl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ll 20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eutrophication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form of waste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ubstances rich in nitrogen and phosphorus (such as fertilizers, animal waste and sewage) flow into the w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 extensive algae grow (algal bloo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algal blooms ba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ae use up all of the oxygen during its rapid growth and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ocates all of the the other animals, causing anoxic conditions in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 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s sunlight from other plant species to grow, such as eelgra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581040"/>
            <a:ext cx="78357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0:28:18Z</dcterms:created>
  <dc:creator>Mona Florea</dc:creator>
  <dc:description/>
  <dc:language>en-US</dc:language>
  <cp:lastModifiedBy>Mona Florea</cp:lastModifiedBy>
  <dcterms:modified xsi:type="dcterms:W3CDTF">2009-12-14T00:38:53Z</dcterms:modified>
  <cp:revision>1</cp:revision>
  <dc:subject/>
  <dc:title>Eutrophication</dc:title>
</cp:coreProperties>
</file>